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253-2E3B-49DF-B0AB-4F33E2A0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939-1604-4359-9933-D03105D3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FF7-CFD6-47B1-B498-3323CDE5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4E1-0A9A-4CEC-8C08-CDF3B36B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462-E867-48F3-8898-5A2F3FB1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62D-DFC8-4C2A-BA2B-9DE00E98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CCF-0014-47B3-B70E-B53E5D18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711-54DE-494D-A056-759F6FF8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4E9-C81B-4398-9CFB-4D22AA1C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FC2-A13D-4A0F-AEB2-07E9C09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5BC-A388-4A46-B68E-16D1B2CA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B39-5C96-4979-8959-FEA55FB0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D0F7-0A16-4227-B785-28D35217D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torial visualNastran 4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 Inventor r4 sp1 e s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32484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ort risultati in filmato AV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blicazione file vN4D in Stream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grazione di visualNastran 4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Inventor con riconoscimento vin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zione carico su puleggi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 simulazione tiro cingh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59000" y="3078000"/>
            <a:ext cx="462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represent belt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zione biella per analisi F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olo tensioni su bie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giunta molla per equilibrio cingh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olo dinamico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oppio click nell’immag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7146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59436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olo agli elementi finiti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oppio click nell’immag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7146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81080" y="2300400"/>
            <a:ext cx="59436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02:54:13Z</dcterms:created>
  <dc:creator>Paolo Lista</dc:creator>
  <dc:description>www.lista.it
tel. 0445,300391
fax 0445,874283</dc:description>
  <dc:language>en-US</dc:language>
  <cp:lastModifiedBy>ing. Paolo Lista</cp:lastModifiedBy>
  <dcterms:modified xsi:type="dcterms:W3CDTF">2001-05-12T11:49:55Z</dcterms:modified>
  <cp:revision>11</cp:revision>
  <dc:subject>Tutorial visualNastran 4D per Inventor</dc:subject>
  <dc:title>Tutorial visualNastran 4D per Inventor</dc:title>
</cp:coreProperties>
</file>